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gif" ContentType="image/gif"/>
  <Override PartName="/ppt/media/image12.gif" ContentType="image/gif"/>
  <Override PartName="/ppt/media/start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4031-F5D1-40D8-BD3D-C05FECC582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7A28-C5F3-41B6-8833-77AB9B0C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E83ECF-C42A-439C-9DA8-ADCECBE1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7541BC-13BF-4412-A397-2A084FD1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8DE518-BD1A-48E6-9E3F-AD954811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2503AD-7D7D-4925-BC28-CBF41CAA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5F498D-1769-4A72-9BAB-903C6665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589256-CC0B-45B3-A53E-ED225B94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DBFE5F-D273-485D-A8C3-82C3D160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7C2262-AF90-4323-A7DE-04F3FE39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459B37-37A2-43FE-9F5A-9EFB8C8138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24A7F-0EA4-41C7-A1AE-99E3CB75B0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8739-F89B-4756-B357-4B5D8B45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0FC3D-03C4-4769-9C07-82E886A3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ADE62-FE68-4F9F-ACBB-AA18D72F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AE04D-714A-4698-924B-03A15CA2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6F4A6-FFEF-4D4F-90B5-52B9E3A2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9F321-46C1-4123-A73A-17BF6667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95FB1-B9FE-44DB-8A2C-AED25597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A20C2-FCCE-453F-A968-205C9DE9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338BF-6404-494A-A305-BD04FF40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5CB79-8E63-4AAE-9D89-86F39D63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F703D-D737-49E7-8BED-FC8327F9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F572-408D-4E3A-94D3-194FDB7550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A4152-2594-4C3F-9C9F-DF05E3EEDE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DD9C20-6EBE-48DE-98E9-6D81CE6310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8CF2C4-88D2-46BB-88F4-6DE79233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225CC7-E9E8-4877-ADEA-25A17891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6A8E39-3F4F-495E-8282-D55FA867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D84A5A-99D6-4F3D-B672-F07862C9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FA0743-A7BD-41EA-84D9-9DC3A7E2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AF02E6-2009-4EEA-9DBA-079D0163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0D187F-70C2-4692-9A01-7FC71DF0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DCD764-E748-47D6-B350-7ECAF177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B50EF-CAB6-4EA8-9AC8-01555C738C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6E30A1-171E-4C34-9A72-80E511AC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F510F6-C10A-42A3-AB48-5BC5A733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914327-7ED2-4618-8ECC-98D73CCBAF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7876B-6972-4146-A5C2-DC234E3038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4E956-9D68-429E-8E8E-7C160C21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E17CD-694A-41C3-AA00-31E2D37A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7ADE1-C1F1-4D84-B7E9-A8E5F552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146B4-A54D-40D0-9A96-B94E808D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CCDC7-4C32-4FB9-A7E2-E3E8AA07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A0DD7-ACE7-4264-98CD-F1B96F92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EA2BA-FD1D-4DAD-B730-914E40C6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E1C96-3212-459D-962E-746A6126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E4F1A-FE4F-4C68-B893-950BE630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75908-A317-484A-BEA1-1E90797D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5D584-8D53-4D85-8076-2306B954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11AA0-C38F-4EFE-8A0E-917D6317B2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BA002-C502-4A62-AFF5-1E187A88C0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43AB0-F024-4B02-BD45-BEF67E8E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8F474-7156-4B5B-9441-67339FCC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A4F94-C65F-492F-8734-9C29F346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09564-98C3-49E0-8FDF-8CA5C765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3CB9F-2603-40D9-BE4B-22E142B0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BED2F-12D4-4603-BF3D-0F7A5766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0D3FA-BA41-42C5-945B-24D0A135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3CCDE-E461-44C7-A266-D3343C8E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65E6C-497F-438E-8F09-39BA3BB1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ADB75-7A3D-4C87-98AD-9DC225D3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B4772-CBB5-479E-96F7-7127B730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D3064-1135-4462-91B0-31E7235AE6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DD7733-EBD3-4637-BA4E-1F19E717AD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D5457D-46CA-480E-886B-8E8CE94D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C7269D-F56F-4876-AE20-B3600A8A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003C1-5AEB-44A4-BF6A-41B9199A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093F32-F57E-4D2E-8885-95D0A8F9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1B4452-C757-46D5-97F0-7474F6E0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A1DA5A-B214-41EB-9854-DE4B8610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5A25D0-924A-4D7F-9345-3FFDAC9B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06C270-3CCE-49BC-AE9C-1F8AF0C6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146968-01A9-4CB0-98D7-567FACEF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75BEC4-513A-44B6-B519-A0CFD675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AB4022-8F48-4DC5-9447-A1EAD40A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B8CB2D-50A9-491B-80AE-FBDD735B19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021856-43D5-46BF-AA93-45ECED3DA8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70844-CC6C-41DC-BD27-3F755ACE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69D656-7CCD-493E-BDDD-CDA8E3E4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7DC129-2816-4AE0-A389-61A54985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8D5003-0399-47D5-81AC-80B2CCAC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DCF902-BD45-4D25-BFE8-66E66683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9DE0BD-EA6B-4FB4-9D4C-79D4E70E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B173D4-14D7-4E56-B243-BAF86811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5B0EF0-D68D-4173-8273-582117C3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301DB4-CC52-46FE-A95E-1351CC67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2DB821-B451-456E-9600-C26F1E04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D94764-524E-46DA-A7D4-B6E7F1D1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5D70A-367B-43B2-97C0-9975547C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D59009-B137-43D7-9B0C-FAF8F6B8C5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890B5-F7EF-4009-9825-F617ABB301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D7825-8242-44B7-8FEF-4478BB79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F5EB0-58BA-4F01-A7BB-542F6F9F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B9082-B918-4085-851A-5F80D57E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F91D0-53F1-409B-925A-14E3744F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A812C-D663-4F35-A1DB-A7D52226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1820C-A369-4C61-AF36-3DD9C543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3138F-26B1-4049-BE6B-77ED0AB5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63CA1-329F-42FA-A24A-ACB71B05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2038E-8B2E-4507-9E19-95FF380F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E2478-E5EF-4B80-B18A-D9C96146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8E213-5AAC-4D57-8444-771C62D3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EC8CA-6144-42F2-82A2-FD56121174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455149-FD50-46D6-9BB6-23AE8B3365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4724D6-A0A4-4016-B799-210FC0DD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555745-1DA5-4324-9FA6-FEC7C998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E6A411-00A7-4B1E-BA7D-2695A116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8E80CF-F1F7-4C15-92D6-EA6B70F5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39EC1A-721C-4871-A6B6-B9CEFDD7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4C6B08-8985-4F98-8F49-1A0A3D9C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FAAE7-DAC5-4630-BB62-AE92C2E8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F283D-7FB2-407D-B3A3-E436B1E8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0BE68F-9A29-4CCB-B03C-D2589867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C37BB0-0ACC-4F1C-B3E5-2F0A470A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6B7512-B51D-4A3C-BCBF-2E8868BE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A51B9E-DDE3-4D27-89AB-9BC411D9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24368C-A7C4-4BB9-8BAD-707EDE9FDC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1F807E-534F-44B8-A053-3B1575861B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F22F50-13B0-4472-A28B-5A238CBA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0B8AE9-4037-42FB-B988-C07E5786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69DD19-264E-4064-91A9-51D4EDA2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49EF2C-57DD-4EB0-B6A9-FE23B063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74535-3A45-4F8E-ACD8-C5DA58A3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777CC2-DF9D-41F7-AF81-8BACF9FE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56D220-A197-419E-AA50-88AE7672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C26A9D-9255-40FD-80C6-49CE769E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ACD8DC-8268-4E7D-92C7-E59B1FBD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EEBFEB-6537-4326-B536-356DD524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29F201-66D4-4B3E-9E0A-B350EFF9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35D1D6-B9B5-493E-B894-69A7085644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D9855-9F95-4C07-B6B5-533ED14D72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5235F-892E-404C-A84B-E3DB7621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FC356-6FA1-44CD-BD7E-8D886DC7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AF1F1-149B-4BE2-B15C-5D85A095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CD1FA-209E-4F68-9374-A7F68273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F455DA-CB6A-45B5-BFCC-30D865C6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54ED7-08A3-47D2-9C2F-3967CEDC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D7036-0061-49D4-9D98-A10DC591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F8DDF-75D1-4007-82D6-061BB2EB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23C20-1CA2-4F2E-9F71-8D51E63D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87AF8-828B-44A4-9B2B-C1DD2AC4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A713B-0475-4555-AB75-DBCA2C06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24506-B70E-4A2E-B1D0-C2EF206467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0C8DFC-4E14-4228-8ACC-D8E4CA3C75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ACDA2-F97F-4FB6-ABA4-C4B70133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1CF4DF-5B48-4686-952D-2332C5E8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1B9EAB-9D7D-4D1F-B646-347C04C2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5D40E4-E857-43E2-BFD4-6409E56A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BC1417-D0D3-4B88-9148-9ADB1A4A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33BBFF-BFB5-4E3F-90E4-40475EC5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818A50-EFCD-4F1E-8697-216C180B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3D057E-712E-4B1D-868C-858808FD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415623-0D77-41D7-922F-236493AD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D38FDF-395C-4112-AF62-DAC480C2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9D1DD4-F0D6-4896-8B1F-632FA8FE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84BC5-882F-47A0-B3DA-464480B0AF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9BC4BC-0E80-4E95-8EAE-502019D038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BF3318D-C012-42BB-8E5F-C989CF7B9F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F414A6D-520E-4111-9D67-7715DBBC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099484-51A3-47AF-89CF-8F1D8B01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5F4F518-F48E-4DD5-B6AC-71FFA681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59046B-9A84-4627-B141-FA2EAB8E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FA6792-DD31-4914-BFD5-C7B10A89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4EC7657-F5F2-4611-8ED2-3C6232DB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C9D13B-BC26-470A-8549-F3678653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549BD94-8228-4AB1-BC3F-E4CEBD83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06B3C1-8201-4FF9-876A-827DAA86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957629E-01B5-49E3-A334-5AC30D1C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075950E-2F08-453C-8835-3F0A4A8B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6D657F3-BF85-4E9D-A91A-A13E1064C3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D67057-01FE-4D27-A1C7-119462708D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8D5DC-4A19-472D-83EB-2686B512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B26E91-BDB4-4044-9649-0C36FD32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113EFF-B8DA-4902-8C6B-CB191F7D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F06414-2FD9-4488-B2B4-3ADA5C39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0BA0A2-067D-4AD4-94DE-B025BDBD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EA0F2-5BB0-4397-A7CB-20D677F0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8EFCA1-28B9-445B-B8FF-3F179009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92C938-BAA0-4AE4-956E-F21DAD19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9340D6-2CD7-4C67-8615-746291FC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38C6A2-3335-482B-AA12-D2EB52C9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3CCC0-8515-4472-8A0C-73080EB3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23AEB-DB9F-4078-9BCB-7D41D65153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1F11DBD-47B6-47A8-9093-D1989B48BE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888D1F-4A00-481F-9F15-E2D7249C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EA6932-0D13-47A6-8E02-D68E956E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040B01-32BE-4752-BC9C-15C6B57C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15C911-421B-43C5-8D68-7FE4D2B0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4DE5D6-C0A2-4D97-9D09-B200A78D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FA95BE-B055-43CC-BD5D-D72B0924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66608A-F71F-4C24-B0DC-EFE74A6A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75D4A5-1F9C-4C51-A6E9-6B470E2F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535BDE-3E70-4158-B7D6-B039134F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2F7104-99E3-4829-896E-48B089AB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760505-DE5A-485E-9969-F8483E47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CCBF0D-3012-403A-A5E7-14BE758152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2CBDD28-8E7B-453C-86B4-42C2B3C7D3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B6559B7-2996-4DBA-B26E-7BCA63B9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3175C42-875E-4838-88AD-66877F35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9F2BA3-A478-4C56-8A1C-5C0304FB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DCA269B-02AF-4782-80D7-F6DB22E7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CB22025-F8FC-4A99-B886-396FDAED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764A8E9-575C-41EF-8699-F1858EC5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0D3528B-F990-4306-BE9B-A4BE2642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C507B1C-67CF-408E-8348-AE51C18C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99695EE-201B-4388-B121-9892E5F8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65F88F9-F604-4F38-A4F3-600AF012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E0302F9-15E8-403B-92F7-A8DDD034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E81006-06B8-4B2A-BC50-EFFC61C4B0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27085B-CEE5-4BA0-8232-72256F0231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11BA2B-D72F-4813-8580-B15F9B59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F432D1-3A4A-4EA3-B453-BE9F461F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F59F32-44AA-4242-9422-B06E6B67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6A6BE-7031-4C53-B4A5-E037603E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8C76BF-1EE7-4465-85C0-A6DD94B9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9745B5-D453-456A-9471-F227ED7E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478C44-5213-4B18-96B2-68E7574A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470690-BC55-4CE1-98EC-861C3CAF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F1F6DC-4585-43EF-9BC9-4B277883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5A6F15-9298-4AD2-A3A5-AC02AADC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1215BB-863E-4721-86B8-0D703032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E72E-74C1-4B24-A75E-8CB1684C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BC75C5-B19D-4942-AA92-57296A00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12C95A-EAD9-47EB-B802-547E0CE05D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70080-EF09-4F0F-9461-F6B8C7E1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064A02-4449-4B01-AE96-0A372342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05D7E5-F2D4-4A9B-810F-10358A7D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46D484-3DB1-4A8E-BC49-88CBA938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74387E-C83A-420A-9F6E-76FD4AC3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D80B49-1077-4971-9AAC-73E7D6EB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8688A1-75BE-4081-8AF4-22F7D68B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B06A7F-DFDD-4499-869A-EB7FEC5C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2417C-127B-4744-AC23-6269CAC8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29EF1B-32BB-4A86-BB33-702295AE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F8838-B61A-4447-A290-E3ADA349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499405-E537-4D8F-A9B1-2AE046AE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16E760-1B58-4008-8E4B-48C340F0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C6A92-0172-4F0C-8473-8BBB060D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F67819-09BE-4D5F-A69B-05CE8F52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3F67F7-00E7-4DB9-B00D-010A510C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56BC9C-6627-414A-B57B-6123547D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369004-A83F-41EC-B2D1-6B7F85B3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570E8C-4B19-4EBA-8CE8-0BF6DF9A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4BD9F7-C5E0-4641-843B-875C01EA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7CAF54-0F6B-4F92-9398-73AD8987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DA85C8-A3CD-4F6C-B5B2-B3CD5166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A59ED6-A5E1-4BAE-962B-F50ACF99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C2520E-0204-41AE-9284-C149E3D7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007667-95A5-4BE3-A3A6-DF912A5A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57072-0075-497F-A267-1B98EA30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5C538E-A776-4EF1-B429-BD6CFC4C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4C4AB-ED2C-4392-A6B0-0E9F1F5B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417C78-A48A-444E-A396-0B9A76D2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A0C245-6E6B-45A0-92D5-BBB2D9A7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87B75-7DB1-4583-B6BD-11F2E485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75B99B-A8A0-41CA-B120-2B4A195E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F2A21C-A489-4DFF-BDF2-E020E462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56F204-6AEF-4E7E-A9D4-7EC2082C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766398-1898-41E9-9875-D0170938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283A91-E3AC-40B6-A268-D4308DAD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47C904-0145-4CE5-BF29-31812508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87875C-4CB2-4255-8B40-F8BF8115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290B4E-027B-4769-BC8B-D46E1B37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08E18C-F494-4E3C-85EC-226C27A1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718FF9-B1F5-4174-A6B5-F0DC1011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2D682A-7A7C-44E8-BDED-DD1BCE42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C54B8-03B5-4F41-8FB7-D4EFABA6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04449C-CC66-4D73-B2E8-5020AEA4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72E5AF-6E51-4E12-8CF3-0281AE74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856D89-53D9-4CC0-8270-ABE1AEE6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DF7571-5CB1-4DEC-B7A6-67A6FB5C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AC7E3C-7C36-4B08-93C6-05AF4A21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7A57F0-13D4-4CF7-99DF-898AE9C9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1E2120-2CE1-4CCF-9189-74A0B2DD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5E8A0C-9654-4B0E-AAD8-DFCF2B53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4831DD-EF18-4125-8B08-FE0FF459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5703FC-910B-4F51-8840-7E8A63D5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87A93C-E6FC-47FB-901E-5480760A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937EA7-4B8D-4C79-921C-8BA7CF3E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13287A-15AC-47C0-8B6A-39AB6358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7EB5A9-049C-4202-B735-A4DEA8D4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2CD433-E9FB-4897-B5DE-AB3B20BA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515003-6B5C-44D2-8743-70E83CB3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7DA2D6-CFE0-45DF-B171-4F766F70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7B2BCB-821C-4C82-BBBF-C1AF8F17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7E3E88-0378-4455-93D3-B95F98B6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003707-3083-4DF4-A8E8-06DA6205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CDB608-6B33-40DE-82F2-EF94D705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761EF1-4DE9-4751-BD95-FD64400A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554D8E-0D02-4F0C-BD76-5E281C52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C334B5-AA0F-4B01-A15D-2AAE1D61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8E7B49-9E67-43C7-B0CF-0F1C082E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4E8288-5997-468E-8D3B-C1399CE2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C3C035-E3BD-40DB-83FC-E614DA9F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4D56B7-0056-4A4A-8CAE-48C7DBDE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DE359D-D1A6-404A-98F9-EBBD539C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156CAE-54EE-4903-B54A-BFBB1091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FD6112-F9BF-4532-A23E-9B700A46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183759-8EAD-40ED-BA16-E21D99C9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AAE5D-9157-4219-A8E8-FCEDEDEAB5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9FAC58-7812-4315-81C2-EA3FD807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C5F212-D4D3-4D8A-89B6-08B9073A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8A3A7D-E068-4EDD-BDA8-69A8BD4C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B67189-47AC-4587-925D-6957ADAB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255960-9497-46F4-814C-A7C72BAF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049D15-84DB-4F58-B327-34EBC9F4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EFD020-ACB7-41E7-B704-CD5DF8F4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A49F19-7262-433A-B5BF-773774B1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8BCCAD-1B23-403A-A2EC-15EC8045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EA3256-04B3-4747-8E1D-6A033B21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5343A-6E3B-440F-A8C7-DEF270D9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207B1B-2520-499F-A240-D96A35AB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3B8250-3753-482A-949B-25C05C52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39F1E9-C1E6-4CF4-90B5-5737B17C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6B1C43-DFC1-482E-906E-BBED7826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99F9F7-7A76-475E-B004-59313FA1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C55915-E215-4B2F-8318-D5E19525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E3EF49-4F53-48FE-BB68-8BF0CEB6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6293CF-BCB6-4F4D-905D-8FA88501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C2A6DB-88CF-4ACC-9C80-FD2667BF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46460E-9F7C-4283-921D-44400593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D0A0B-B850-4E30-9339-C8412FF4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6F3DEF-6518-4CD0-AE9C-DCDE4D30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8D4284-C386-4CBE-B0A3-FBCCCA89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65AD98-3726-4A7F-B08F-9268B4DD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C07608-8C04-4A9E-8D40-D801BACC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07CB2F-E34B-4060-A407-DDEFFAE2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C0D4FA-3052-4F97-A1C1-B1B0B5DA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C22485-F411-48ED-BC7B-8641EFF7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08F942-819E-45EE-BABC-3284FF37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E8FB99-9EC4-4ABB-AB01-31B6EBCA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441E91-C06D-44D6-9B3A-CAA047B7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0798-3141-4A58-B25F-71283904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115B9-0B51-4B87-9792-4F04EBE6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F5100F-4B3D-4327-A153-7C9154DD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21CEDB-E0C2-4F5F-A73B-BE449A6A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1E70D2-4999-45B8-801B-4B2B7B19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400C11-1D4C-4AC3-8A42-34FF67AC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1E48FA-FB33-4757-9DE0-C78DA1F8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E53B1A-5623-47DC-AC7D-D7D67175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2EC96E-8D30-4493-B377-1B420F4A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F6397C-D16C-4AA6-AC19-375F014F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D8F322-C082-41DA-96FB-DCD02881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C2785D-1909-467A-92D4-7BE89373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1A03E-FE2B-4B47-8684-0D502DDD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13482F-CBCE-4033-9863-FA81E7A1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313ED0-989F-4C5D-A6A0-E065EBDB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0F015C-E6AF-4679-A3C9-4A64E4E6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2C525C-C4D5-40D8-A780-2FAE3F0D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A5C442-E5B4-44B9-A3E9-4C423FED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457A6C-AFC0-421F-92FA-DB50582A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9B060F-8775-4781-A77C-5EE60364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7EE54B-FA26-4CD2-8157-147D9DC5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456093-2745-4471-B579-837787C5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A858D6-A500-4DB2-812A-2594E8FE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29C6-8B7F-463C-915D-40781730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832DD1-BC9F-4552-8244-294E3EB7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68DF4F-4B42-48C2-A2DD-09282633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BCE8F5-0424-4B04-B8E7-6AA05330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504E99-A283-401B-BA61-4AE4ACDC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85FD07-1997-493E-87AB-A0BE2BC1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ED9110-A398-4D41-A01C-9198BF7F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C0E38F-A5D8-479F-9BE7-B1681A3E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26B714-8C8C-4E46-A09B-8AC5605C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59F889-608F-4C22-AF98-E1CEC3FA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2A9678-B6AD-4B9A-B066-D619AF4E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3E70-48A0-4B48-8E57-021C57A8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CE149D-B58A-4D7A-8FC8-0D0CB609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DC3FED-936B-4F72-8615-2F20461D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DDA5A3-7497-4B96-B461-4BDC4A6B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1B65-063A-4931-93E8-1517D78A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64DA1-25E4-4C31-A917-FFB2FF76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43323-9B38-41AD-9717-8570BCF6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63482-E305-4C7E-9977-02163F42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717AD-C9C3-4B82-B356-7D4B9AAF60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BDF9D3-4E33-49CC-995E-97DF40B22C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734E8-85CC-4ED9-B0C3-5A354210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AC920-3A0D-450A-AA20-ACDDAC5E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B9D3C-489A-49E0-B039-71DFA523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EABB66-3ED3-4AAA-910B-873A6956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9F87C-4CE2-4D3B-8A88-2FB85475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830CB5-5F4A-4CED-87F7-80114D68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EE2DB7-F062-4C0E-B68D-0F0F9AEA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B01E4-ADD5-4CA8-A2F3-9CA9758D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E23211-5F30-40DC-860A-18F1164D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6D1C1-AB58-4B07-A25A-055FCFD0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CF5D9E-89C5-4D02-A62D-AD4A7141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44F4-6D6D-497F-B9CA-0FA77868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EA8AD0-5236-40DD-BAFA-3A2820605E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773BA9-9DB0-40B1-BB02-0FF44A3328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977AE8-BE56-47AD-8022-3178600F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FE13FB-4CB3-404C-AC07-293E7C6D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52A0A3-36F0-492A-9AE8-D87C1911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FECE8D-BBF9-4549-8286-2D566EC4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827543-A1CD-4BAD-B099-46606007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E64CA8-5422-41CF-B01E-BD2261A5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C6F27A-9757-4997-AB22-57C5A7B8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7B922B-0AAE-4967-A5FD-206469A5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994AC-B3CB-43B9-B04F-085C967A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6E78C5-F7B0-4CDE-A698-9AD2B9C8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C9B8FD-7231-4F47-88C5-01B3135F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C31CE4-9353-4ECB-B51F-7008F33662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33948-419B-451C-A48E-EB8BCDA4C0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4AAAB-0A6B-4F17-BFA0-53EEDBB2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0582E-4748-40EE-A0FC-AD7D0E44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7587F-B635-4904-9AAE-52EDA1D5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A7CD3-1A67-4C89-8E89-8BE182E6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873C1-870F-436D-BC3D-D0194248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B690E-B031-43BE-95C2-84238A7C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F9DB6-7CEB-4156-B687-176CFAB6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3DCA4-3F71-4AD4-9C09-DCC4F0FA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4E142-DF31-4421-A089-C4C4A053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75B38-B4DB-43A4-AC03-1AEED41E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2F805-89AF-4FD6-A663-DD436805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BAE90-0A33-4BE2-A5A3-1E842671C8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D5A202-14F6-470A-B47E-C09F9BDBCF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21AA9E-4005-4A18-9DE1-7A80566E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29ECAA-1EF1-4FE7-96A0-90435A60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34864-BF33-4E92-BA79-966D34D8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D479D7-4AC0-4707-AC27-BA9898E8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0F696-D7C2-4A54-A61F-75D5E45D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B19AFB-78E7-4D10-B078-EFA34115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9900B-4B8E-4C0D-8017-B868634E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A5E7D-0654-4F95-98CF-546E3B90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F143E-86F0-4E8C-BF83-14746440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1A342-0BA7-47AE-83BA-53EC7C98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CC23A-5727-4C1C-9C5C-271AB40A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59919-BB1C-400D-BE1B-FBB668FEE0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BCBC9F-71F1-4AEE-9127-F5725807E2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954CA1-C81E-47CA-B69A-427A3351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D23C0A-495E-4591-8099-22EB7C3E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174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174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174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174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174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175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175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DA0D-8189-4E57-9DB4-2B282B4E40B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CBBE-F7ED-46A5-8B50-D0D63C2AE3B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438F-5852-455F-83AC-50CDF6BBA73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6896-B8DA-4C21-94A9-0746AAE1800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64F7-F889-4321-A76C-77A85908AD6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9ECE-92EC-4C95-87A1-3C37EDD2901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8B0B-BE8C-426B-B05F-D02C2A64593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3E31-0BC3-4433-BEA2-87E3DDE932B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479F-83CD-4186-8FC1-8B19A1131F9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DC9A-7326-4C2D-A817-22FF71426C2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86A1-746A-4B2E-A3A6-FD00346FF43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9C6D-6257-42A3-9CC9-016AFF5EDBD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A274-34F3-41DF-BEAB-33C70CA0871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E782-3061-4020-BCAF-6446E701CE8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0BD3-600C-4109-A032-BA19192176A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0821-7147-4DD4-B3F9-465AD1115CB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D599-DB1E-4EE0-8B5A-3390C609C4F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C552-DC21-41A0-BF91-D98F85FA388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9DF3-239E-48AB-919B-B91FB937A16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FC89-A2A8-4FD5-915A-1EF0423A5AA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5871-7AA3-4ADB-9AC7-57DEC876242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CB9D-FD19-444D-BFC8-85C45C691D3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FAEC-ECD4-4983-9D8F-EA711973E69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8229-92C3-438F-9646-9B0ABAC95AA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27A8-09AA-4611-98A5-C03B8AB6232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CBAA-B701-4655-AD54-CA70879D06B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1D5A-574A-4327-912A-A2F12C4EB18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6F65-A6CB-42DE-BF2D-241FE969637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0A7C-871C-441A-ABAE-27FBC5DD06B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85C6-E1F8-4347-B3C3-FEF799DCA5E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276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277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277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277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277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277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277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486E-C6F1-49A6-9982-53EF1828B72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A05D-29F3-4889-AA52-B407925F39A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BD1F-22F3-4CFD-8266-9EEA8345D20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F78A-D2B5-42E1-90DC-B5C45565FCB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A852-409C-4079-8C80-DC271BC75B1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7656-15BB-4B93-92B9-9D2F644DCAC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7649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7650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979640" y="47628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百分数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395280" y="206064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百分数的意义和读写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六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6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7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578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579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580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582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583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584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585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586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6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联系生活、引出百分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5" name="图片 19458" descr="程序格式化百分2"/>
          <p:cNvPicPr/>
          <p:nvPr/>
        </p:nvPicPr>
        <p:blipFill>
          <a:blip r:embed="rId1"/>
          <a:stretch/>
        </p:blipFill>
        <p:spPr>
          <a:xfrm>
            <a:off x="1332000" y="1773360"/>
            <a:ext cx="6257880" cy="4430520"/>
          </a:xfrm>
          <a:prstGeom prst="rect">
            <a:avLst/>
          </a:prstGeom>
          <a:ln w="0">
            <a:noFill/>
          </a:ln>
        </p:spPr>
      </p:pic>
      <p:sp>
        <p:nvSpPr>
          <p:cNvPr id="1486" name="Rectangle 17"/>
          <p:cNvSpPr/>
          <p:nvPr/>
        </p:nvSpPr>
        <p:spPr>
          <a:xfrm>
            <a:off x="3851280" y="4221000"/>
            <a:ext cx="1297080" cy="57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87" name="图片 19460" descr="衣服标牌"/>
          <p:cNvPicPr/>
          <p:nvPr/>
        </p:nvPicPr>
        <p:blipFill>
          <a:blip r:embed="rId2"/>
          <a:stretch/>
        </p:blipFill>
        <p:spPr>
          <a:xfrm>
            <a:off x="3564000" y="1773360"/>
            <a:ext cx="1790640" cy="4538520"/>
          </a:xfrm>
          <a:prstGeom prst="rect">
            <a:avLst/>
          </a:prstGeom>
          <a:ln w="0">
            <a:noFill/>
          </a:ln>
        </p:spPr>
      </p:pic>
      <p:pic>
        <p:nvPicPr>
          <p:cNvPr id="1488" name="图片 19461" descr="6单元的报纸"/>
          <p:cNvPicPr/>
          <p:nvPr/>
        </p:nvPicPr>
        <p:blipFill>
          <a:blip r:embed="rId3"/>
          <a:stretch/>
        </p:blipFill>
        <p:spPr>
          <a:xfrm>
            <a:off x="2700360" y="1700280"/>
            <a:ext cx="4540320" cy="4680000"/>
          </a:xfrm>
          <a:prstGeom prst="rect">
            <a:avLst/>
          </a:prstGeom>
          <a:ln w="0">
            <a:noFill/>
          </a:ln>
        </p:spPr>
      </p:pic>
      <p:sp>
        <p:nvSpPr>
          <p:cNvPr id="1489" name="Rectangle 22"/>
          <p:cNvSpPr/>
          <p:nvPr/>
        </p:nvSpPr>
        <p:spPr>
          <a:xfrm>
            <a:off x="3635280" y="3141720"/>
            <a:ext cx="1656000" cy="86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0" name="Rectangle 24"/>
          <p:cNvSpPr/>
          <p:nvPr/>
        </p:nvSpPr>
        <p:spPr>
          <a:xfrm>
            <a:off x="5483160" y="5864400"/>
            <a:ext cx="792360" cy="27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1" name="Rectangle 25"/>
          <p:cNvSpPr/>
          <p:nvPr/>
        </p:nvSpPr>
        <p:spPr>
          <a:xfrm>
            <a:off x="5867280" y="4941720"/>
            <a:ext cx="793800" cy="268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2" name="矩形 19465"/>
          <p:cNvSpPr/>
          <p:nvPr/>
        </p:nvSpPr>
        <p:spPr>
          <a:xfrm>
            <a:off x="342720" y="35733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"/>
                            </p:stCondLst>
                            <p:childTnLst>
                              <p:par>
                                <p:cTn id="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"/>
                            </p:stCondLst>
                            <p:childTnLst>
                              <p:par>
                                <p:cTn id="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20481" descr="6单元的报纸"/>
          <p:cNvPicPr/>
          <p:nvPr/>
        </p:nvPicPr>
        <p:blipFill>
          <a:blip r:embed="rId1"/>
          <a:stretch/>
        </p:blipFill>
        <p:spPr>
          <a:xfrm>
            <a:off x="5292720" y="1773360"/>
            <a:ext cx="2863800" cy="2952720"/>
          </a:xfrm>
          <a:prstGeom prst="rect">
            <a:avLst/>
          </a:prstGeom>
          <a:ln w="0">
            <a:noFill/>
          </a:ln>
        </p:spPr>
      </p:pic>
      <p:pic>
        <p:nvPicPr>
          <p:cNvPr id="1494" name="图片 20482" descr="程序格式化百分2"/>
          <p:cNvPicPr/>
          <p:nvPr/>
        </p:nvPicPr>
        <p:blipFill>
          <a:blip r:embed="rId2"/>
          <a:stretch/>
        </p:blipFill>
        <p:spPr>
          <a:xfrm>
            <a:off x="684360" y="1773360"/>
            <a:ext cx="2881080" cy="2039760"/>
          </a:xfrm>
          <a:prstGeom prst="rect">
            <a:avLst/>
          </a:prstGeom>
          <a:ln w="0">
            <a:noFill/>
          </a:ln>
        </p:spPr>
      </p:pic>
      <p:pic>
        <p:nvPicPr>
          <p:cNvPr id="1495" name="图片 20483" descr="衣服标牌"/>
          <p:cNvPicPr/>
          <p:nvPr/>
        </p:nvPicPr>
        <p:blipFill>
          <a:blip r:embed="rId3"/>
          <a:stretch/>
        </p:blipFill>
        <p:spPr>
          <a:xfrm>
            <a:off x="3780000" y="1773360"/>
            <a:ext cx="1218960" cy="3095640"/>
          </a:xfrm>
          <a:prstGeom prst="rect">
            <a:avLst/>
          </a:prstGeom>
          <a:ln w="0">
            <a:noFill/>
          </a:ln>
        </p:spPr>
      </p:pic>
      <p:sp>
        <p:nvSpPr>
          <p:cNvPr id="1496" name="文本框 20484"/>
          <p:cNvSpPr/>
          <p:nvPr/>
        </p:nvSpPr>
        <p:spPr>
          <a:xfrm>
            <a:off x="4840200" y="5784840"/>
            <a:ext cx="59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97" name="Picture 20" descr="男天使副本"/>
          <p:cNvPicPr/>
          <p:nvPr/>
        </p:nvPicPr>
        <p:blipFill>
          <a:blip r:embed="rId4"/>
          <a:stretch/>
        </p:blipFill>
        <p:spPr>
          <a:xfrm>
            <a:off x="250920" y="4869000"/>
            <a:ext cx="1523880" cy="1414440"/>
          </a:xfrm>
          <a:prstGeom prst="rect">
            <a:avLst/>
          </a:prstGeom>
          <a:ln w="0">
            <a:noFill/>
          </a:ln>
        </p:spPr>
      </p:pic>
      <p:grpSp>
        <p:nvGrpSpPr>
          <p:cNvPr id="1498" name="Group 18"/>
          <p:cNvGrpSpPr/>
          <p:nvPr/>
        </p:nvGrpSpPr>
        <p:grpSpPr>
          <a:xfrm>
            <a:off x="2050920" y="4726080"/>
            <a:ext cx="2809800" cy="1007640"/>
            <a:chOff x="2050920" y="4726080"/>
            <a:chExt cx="2809800" cy="1007640"/>
          </a:xfrm>
        </p:grpSpPr>
        <p:sp>
          <p:nvSpPr>
            <p:cNvPr id="1499" name="AutoShape 15"/>
            <p:cNvSpPr/>
            <p:nvPr/>
          </p:nvSpPr>
          <p:spPr>
            <a:xfrm>
              <a:off x="2050920" y="4726080"/>
              <a:ext cx="2808000" cy="1007640"/>
            </a:xfrm>
            <a:prstGeom prst="wedgeRoundRectCallout">
              <a:avLst>
                <a:gd name="adj1" fmla="val -60231"/>
                <a:gd name="adj2" fmla="val 41185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0" name="Text Box 16"/>
            <p:cNvSpPr/>
            <p:nvPr/>
          </p:nvSpPr>
          <p:spPr>
            <a:xfrm>
              <a:off x="2123640" y="480420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你还在什么地方见过上面这样的数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01" name="Text Box 20"/>
          <p:cNvSpPr/>
          <p:nvPr/>
        </p:nvSpPr>
        <p:spPr>
          <a:xfrm>
            <a:off x="539640" y="515772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像上面这样的数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，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如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4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、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5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叫做</a:t>
            </a:r>
            <a:r>
              <a:rPr b="0" i="1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百分数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2" name="组合 20490"/>
          <p:cNvGrpSpPr/>
          <p:nvPr/>
        </p:nvGrpSpPr>
        <p:grpSpPr>
          <a:xfrm>
            <a:off x="539640" y="5445000"/>
            <a:ext cx="8604360" cy="815400"/>
            <a:chOff x="539640" y="5445000"/>
            <a:chExt cx="8604360" cy="815400"/>
          </a:xfrm>
        </p:grpSpPr>
        <p:sp>
          <p:nvSpPr>
            <p:cNvPr id="1503" name="Text Box 21"/>
            <p:cNvSpPr/>
            <p:nvPr/>
          </p:nvSpPr>
          <p:spPr>
            <a:xfrm>
              <a:off x="539640" y="5661000"/>
              <a:ext cx="86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百分数表示一个数是另一个数的百分之几，如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4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%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表示一个数占另一个数的    </a:t>
              </a: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04" name="组合 20492"/>
            <p:cNvGrpSpPr/>
            <p:nvPr/>
          </p:nvGrpSpPr>
          <p:grpSpPr>
            <a:xfrm>
              <a:off x="8172360" y="5445000"/>
              <a:ext cx="666720" cy="815400"/>
              <a:chOff x="8172360" y="5445000"/>
              <a:chExt cx="666720" cy="815400"/>
            </a:xfrm>
          </p:grpSpPr>
          <p:sp>
            <p:nvSpPr>
              <p:cNvPr id="1505" name="文本框 20493"/>
              <p:cNvSpPr/>
              <p:nvPr/>
            </p:nvSpPr>
            <p:spPr>
              <a:xfrm>
                <a:off x="8172360" y="5800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6" name="文本框 20494"/>
              <p:cNvSpPr/>
              <p:nvPr/>
            </p:nvSpPr>
            <p:spPr>
              <a:xfrm>
                <a:off x="8229600" y="5445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7" name="直接连接符 20495"/>
              <p:cNvSpPr/>
              <p:nvPr/>
            </p:nvSpPr>
            <p:spPr>
              <a:xfrm>
                <a:off x="8307360" y="5864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08" name="Rectangle 2"/>
          <p:cNvSpPr/>
          <p:nvPr/>
        </p:nvSpPr>
        <p:spPr>
          <a:xfrm>
            <a:off x="457200" y="417600"/>
            <a:ext cx="6635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、联系生活、引出百分数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1"/>
                            </p:stCondLst>
                            <p:childTnLst>
                              <p:par>
                                <p:cTn id="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"/>
                            </p:stCondLst>
                            <p:childTnLst>
                              <p:par>
                                <p:cTn id="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47480" y="135000"/>
            <a:ext cx="6932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感悟，理解概念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AutoShape 10"/>
          <p:cNvSpPr/>
          <p:nvPr/>
        </p:nvSpPr>
        <p:spPr>
          <a:xfrm>
            <a:off x="4284720" y="1557360"/>
            <a:ext cx="3311640" cy="1079640"/>
          </a:xfrm>
          <a:prstGeom prst="wedgeRoundRectCallout">
            <a:avLst>
              <a:gd name="adj1" fmla="val 58916"/>
              <a:gd name="adj2" fmla="val 15148"/>
              <a:gd name="adj3" fmla="val 16667"/>
            </a:avLst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你能说说上页图中几个百分数各表示什么意思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1" name="AutoShape 17"/>
          <p:cNvSpPr/>
          <p:nvPr/>
        </p:nvSpPr>
        <p:spPr>
          <a:xfrm>
            <a:off x="4498920" y="3933720"/>
            <a:ext cx="2952720" cy="1008000"/>
          </a:xfrm>
          <a:prstGeom prst="wedgeRoundRectCallout">
            <a:avLst>
              <a:gd name="adj1" fmla="val 63009"/>
              <a:gd name="adj2" fmla="val -1810"/>
              <a:gd name="adj3" fmla="val 16667"/>
            </a:avLst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第二幅图中的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65.5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表示羊毛占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2" name="Text Box 18"/>
          <p:cNvSpPr/>
          <p:nvPr/>
        </p:nvSpPr>
        <p:spPr>
          <a:xfrm>
            <a:off x="1836720" y="5380200"/>
            <a:ext cx="6048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百分数也叫做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楷体_GB2312"/>
                <a:ea typeface="宋体"/>
              </a:rPr>
              <a:t>百分率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或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楷体_GB2312"/>
                <a:ea typeface="宋体"/>
              </a:rPr>
              <a:t>百分比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13" name="组合 21509"/>
          <p:cNvGrpSpPr/>
          <p:nvPr/>
        </p:nvGrpSpPr>
        <p:grpSpPr>
          <a:xfrm>
            <a:off x="1282680" y="2679840"/>
            <a:ext cx="3289320" cy="1440360"/>
            <a:chOff x="1282680" y="2679840"/>
            <a:chExt cx="3289320" cy="1440360"/>
          </a:xfrm>
        </p:grpSpPr>
        <p:sp>
          <p:nvSpPr>
            <p:cNvPr id="1514" name="AutoShape 12"/>
            <p:cNvSpPr/>
            <p:nvPr/>
          </p:nvSpPr>
          <p:spPr>
            <a:xfrm>
              <a:off x="1282680" y="2679840"/>
              <a:ext cx="3289320" cy="1439640"/>
            </a:xfrm>
            <a:prstGeom prst="wedgeRoundRectCallout">
              <a:avLst>
                <a:gd name="adj1" fmla="val -57384"/>
                <a:gd name="adj2" fmla="val 32027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第一个图中的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4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%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表示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已经格式化的部分占所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要格式化的总量的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15" name="组合 21511"/>
            <p:cNvGrpSpPr/>
            <p:nvPr/>
          </p:nvGrpSpPr>
          <p:grpSpPr>
            <a:xfrm>
              <a:off x="3495600" y="3417840"/>
              <a:ext cx="656640" cy="702360"/>
              <a:chOff x="3495600" y="3417840"/>
              <a:chExt cx="656640" cy="702360"/>
            </a:xfrm>
          </p:grpSpPr>
          <p:sp>
            <p:nvSpPr>
              <p:cNvPr id="1516" name="文本框 21512"/>
              <p:cNvSpPr/>
              <p:nvPr/>
            </p:nvSpPr>
            <p:spPr>
              <a:xfrm>
                <a:off x="3495600" y="3697200"/>
                <a:ext cx="6094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0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7" name="文本框 21513"/>
              <p:cNvSpPr/>
              <p:nvPr/>
            </p:nvSpPr>
            <p:spPr>
              <a:xfrm>
                <a:off x="3543120" y="3417840"/>
                <a:ext cx="609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4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8" name="直接连接符 21514"/>
              <p:cNvSpPr/>
              <p:nvPr/>
            </p:nvSpPr>
            <p:spPr>
              <a:xfrm>
                <a:off x="3571560" y="3780000"/>
                <a:ext cx="418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1519" name="图片 21515" descr="蓝色衣服红领巾男孩"/>
          <p:cNvPicPr/>
          <p:nvPr/>
        </p:nvPicPr>
        <p:blipFill>
          <a:blip r:embed="rId1"/>
          <a:stretch/>
        </p:blipFill>
        <p:spPr>
          <a:xfrm>
            <a:off x="-36360" y="3182760"/>
            <a:ext cx="1574640" cy="1729080"/>
          </a:xfrm>
          <a:prstGeom prst="rect">
            <a:avLst/>
          </a:prstGeom>
          <a:ln w="0">
            <a:noFill/>
          </a:ln>
        </p:spPr>
      </p:pic>
      <p:pic>
        <p:nvPicPr>
          <p:cNvPr id="1520" name="图片 21516" descr="绿色衣服男孩"/>
          <p:cNvPicPr/>
          <p:nvPr/>
        </p:nvPicPr>
        <p:blipFill>
          <a:blip r:embed="rId2"/>
          <a:stretch/>
        </p:blipFill>
        <p:spPr>
          <a:xfrm>
            <a:off x="7308720" y="4078440"/>
            <a:ext cx="1675080" cy="1871640"/>
          </a:xfrm>
          <a:prstGeom prst="rect">
            <a:avLst/>
          </a:prstGeom>
          <a:ln w="0">
            <a:noFill/>
          </a:ln>
        </p:spPr>
      </p:pic>
      <p:pic>
        <p:nvPicPr>
          <p:cNvPr id="1521" name="Picture 16" descr="女天使"/>
          <p:cNvPicPr/>
          <p:nvPr/>
        </p:nvPicPr>
        <p:blipFill>
          <a:blip r:embed="rId3"/>
          <a:stretch/>
        </p:blipFill>
        <p:spPr>
          <a:xfrm>
            <a:off x="7620120" y="141300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1522" name="矩形 21518"/>
          <p:cNvSpPr/>
          <p:nvPr/>
        </p:nvSpPr>
        <p:spPr>
          <a:xfrm>
            <a:off x="2069640" y="3500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"/>
                            </p:stCondLst>
                            <p:childTnLst>
                              <p:par>
                                <p:cTn id="8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"/>
                            </p:stCondLst>
                            <p:childTnLst>
                              <p:par>
                                <p:cTn id="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"/>
                            </p:stCondLst>
                            <p:childTnLst>
                              <p:par>
                                <p:cTn id="10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Rectangle 4"/>
          <p:cNvSpPr/>
          <p:nvPr/>
        </p:nvSpPr>
        <p:spPr>
          <a:xfrm>
            <a:off x="3325320" y="396360"/>
            <a:ext cx="79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交流反馈，形成概念。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4" name="Text Box 5"/>
          <p:cNvSpPr/>
          <p:nvPr/>
        </p:nvSpPr>
        <p:spPr>
          <a:xfrm>
            <a:off x="684360" y="1916280"/>
            <a:ext cx="7343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百分数通常不写成分数形式，而在原来的分子后面加上百分号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来表示，读作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百分之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5" name="Text Box 6"/>
          <p:cNvSpPr/>
          <p:nvPr/>
        </p:nvSpPr>
        <p:spPr>
          <a:xfrm>
            <a:off x="1403280" y="3357720"/>
            <a:ext cx="115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4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6" name="Text Box 7"/>
          <p:cNvSpPr/>
          <p:nvPr/>
        </p:nvSpPr>
        <p:spPr>
          <a:xfrm>
            <a:off x="1403280" y="4248000"/>
            <a:ext cx="165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5.5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7" name="Text Box 8"/>
          <p:cNvSpPr/>
          <p:nvPr/>
        </p:nvSpPr>
        <p:spPr>
          <a:xfrm>
            <a:off x="1403280" y="5138640"/>
            <a:ext cx="115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0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8" name="Text Box 9"/>
          <p:cNvSpPr/>
          <p:nvPr/>
        </p:nvSpPr>
        <p:spPr>
          <a:xfrm>
            <a:off x="3060720" y="3357720"/>
            <a:ext cx="115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读作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9" name="Text Box 10"/>
          <p:cNvSpPr/>
          <p:nvPr/>
        </p:nvSpPr>
        <p:spPr>
          <a:xfrm>
            <a:off x="3060720" y="4248000"/>
            <a:ext cx="115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读作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0" name="Text Box 11"/>
          <p:cNvSpPr/>
          <p:nvPr/>
        </p:nvSpPr>
        <p:spPr>
          <a:xfrm>
            <a:off x="3060720" y="5138640"/>
            <a:ext cx="115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读作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1" name="Text Box 12"/>
          <p:cNvSpPr/>
          <p:nvPr/>
        </p:nvSpPr>
        <p:spPr>
          <a:xfrm>
            <a:off x="4572000" y="3384720"/>
            <a:ext cx="280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百分之十四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2" name="Text Box 13"/>
          <p:cNvSpPr/>
          <p:nvPr/>
        </p:nvSpPr>
        <p:spPr>
          <a:xfrm>
            <a:off x="4572000" y="4273560"/>
            <a:ext cx="280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百分之六十五点五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3" name="Text Box 14"/>
          <p:cNvSpPr/>
          <p:nvPr/>
        </p:nvSpPr>
        <p:spPr>
          <a:xfrm>
            <a:off x="4572000" y="5138640"/>
            <a:ext cx="280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百分之一百二十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4" name="矩形 1"/>
          <p:cNvSpPr/>
          <p:nvPr/>
        </p:nvSpPr>
        <p:spPr>
          <a:xfrm>
            <a:off x="2069640" y="3500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5" name="矩形 2"/>
          <p:cNvSpPr/>
          <p:nvPr/>
        </p:nvSpPr>
        <p:spPr>
          <a:xfrm>
            <a:off x="2285640" y="3716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6" name="矩形 22542"/>
          <p:cNvSpPr/>
          <p:nvPr/>
        </p:nvSpPr>
        <p:spPr>
          <a:xfrm>
            <a:off x="2501640" y="3932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7" name="矩形 22543"/>
          <p:cNvSpPr/>
          <p:nvPr/>
        </p:nvSpPr>
        <p:spPr>
          <a:xfrm>
            <a:off x="2717640" y="4148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宋体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Rectangle 4"/>
          <p:cNvSpPr/>
          <p:nvPr/>
        </p:nvSpPr>
        <p:spPr>
          <a:xfrm>
            <a:off x="3211200" y="393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应用特征，解决问题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9" name="Text Box 5"/>
          <p:cNvSpPr/>
          <p:nvPr/>
        </p:nvSpPr>
        <p:spPr>
          <a:xfrm>
            <a:off x="950760" y="1816200"/>
            <a:ext cx="4845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写出下面的百分数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0" name="Text Box 6"/>
          <p:cNvSpPr/>
          <p:nvPr/>
        </p:nvSpPr>
        <p:spPr>
          <a:xfrm>
            <a:off x="971640" y="2781360"/>
            <a:ext cx="4844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百分之一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1" name="Text Box 7"/>
          <p:cNvSpPr/>
          <p:nvPr/>
        </p:nvSpPr>
        <p:spPr>
          <a:xfrm>
            <a:off x="3419640" y="2781360"/>
            <a:ext cx="237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百分之二十八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2" name="Text Box 8"/>
          <p:cNvSpPr/>
          <p:nvPr/>
        </p:nvSpPr>
        <p:spPr>
          <a:xfrm>
            <a:off x="6156360" y="2781360"/>
            <a:ext cx="237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百分之零点五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3" name="Line 13"/>
          <p:cNvSpPr/>
          <p:nvPr/>
        </p:nvSpPr>
        <p:spPr>
          <a:xfrm>
            <a:off x="1116000" y="47973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4" name="Line 15"/>
          <p:cNvSpPr/>
          <p:nvPr/>
        </p:nvSpPr>
        <p:spPr>
          <a:xfrm>
            <a:off x="3708360" y="47973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5" name="Line 16"/>
          <p:cNvSpPr/>
          <p:nvPr/>
        </p:nvSpPr>
        <p:spPr>
          <a:xfrm>
            <a:off x="6516720" y="47973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6" name="Rectangle 19"/>
          <p:cNvSpPr/>
          <p:nvPr/>
        </p:nvSpPr>
        <p:spPr>
          <a:xfrm>
            <a:off x="1476360" y="4254480"/>
            <a:ext cx="107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7" name="Rectangle 20"/>
          <p:cNvSpPr/>
          <p:nvPr/>
        </p:nvSpPr>
        <p:spPr>
          <a:xfrm>
            <a:off x="4243680" y="4245120"/>
            <a:ext cx="872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8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8" name="Rectangle 21"/>
          <p:cNvSpPr/>
          <p:nvPr/>
        </p:nvSpPr>
        <p:spPr>
          <a:xfrm>
            <a:off x="6908760" y="4245120"/>
            <a:ext cx="971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5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 Box 4"/>
          <p:cNvSpPr/>
          <p:nvPr/>
        </p:nvSpPr>
        <p:spPr>
          <a:xfrm>
            <a:off x="879480" y="1844640"/>
            <a:ext cx="4844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读一读下面的百分数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0" name="Rectangle 11"/>
          <p:cNvSpPr/>
          <p:nvPr/>
        </p:nvSpPr>
        <p:spPr>
          <a:xfrm>
            <a:off x="925560" y="3040200"/>
            <a:ext cx="872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7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1" name="Rectangle 14"/>
          <p:cNvSpPr/>
          <p:nvPr/>
        </p:nvSpPr>
        <p:spPr>
          <a:xfrm>
            <a:off x="2300400" y="3040200"/>
            <a:ext cx="872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5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2" name="Rectangle 15"/>
          <p:cNvSpPr/>
          <p:nvPr/>
        </p:nvSpPr>
        <p:spPr>
          <a:xfrm>
            <a:off x="3811680" y="3040200"/>
            <a:ext cx="872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9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3" name="Rectangle 16"/>
          <p:cNvSpPr/>
          <p:nvPr/>
        </p:nvSpPr>
        <p:spPr>
          <a:xfrm>
            <a:off x="5324760" y="3040200"/>
            <a:ext cx="1070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4" name="Rectangle 17"/>
          <p:cNvSpPr/>
          <p:nvPr/>
        </p:nvSpPr>
        <p:spPr>
          <a:xfrm>
            <a:off x="6836040" y="3040200"/>
            <a:ext cx="1070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4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5" name="Rectangle 19"/>
          <p:cNvSpPr/>
          <p:nvPr/>
        </p:nvSpPr>
        <p:spPr>
          <a:xfrm>
            <a:off x="925560" y="4264200"/>
            <a:ext cx="97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6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6" name="Rectangle 20"/>
          <p:cNvSpPr/>
          <p:nvPr/>
        </p:nvSpPr>
        <p:spPr>
          <a:xfrm>
            <a:off x="2300040" y="4264200"/>
            <a:ext cx="97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.5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7" name="Rectangle 21"/>
          <p:cNvSpPr/>
          <p:nvPr/>
        </p:nvSpPr>
        <p:spPr>
          <a:xfrm>
            <a:off x="3811680" y="4264200"/>
            <a:ext cx="116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3.3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8" name="Rectangle 22"/>
          <p:cNvSpPr/>
          <p:nvPr/>
        </p:nvSpPr>
        <p:spPr>
          <a:xfrm>
            <a:off x="5324760" y="4264200"/>
            <a:ext cx="136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1.7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9" name="Rectangle 23"/>
          <p:cNvSpPr/>
          <p:nvPr/>
        </p:nvSpPr>
        <p:spPr>
          <a:xfrm>
            <a:off x="6902640" y="4264200"/>
            <a:ext cx="1070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211200" y="393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应用特征，解决问题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1" name=""/>
          <p:cNvGraphicFramePr/>
          <p:nvPr/>
        </p:nvGraphicFramePr>
        <p:xfrm>
          <a:off x="684360" y="3286080"/>
          <a:ext cx="7715160" cy="2019240"/>
        </p:xfrm>
        <a:graphic>
          <a:graphicData uri="http://schemas.openxmlformats.org/drawingml/2006/table">
            <a:tbl>
              <a:tblPr/>
              <a:tblGrid>
                <a:gridCol w="1008000"/>
                <a:gridCol w="2849760"/>
                <a:gridCol w="38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         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百分数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                  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分数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 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意义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62" name="组合 25615"/>
          <p:cNvGrpSpPr/>
          <p:nvPr/>
        </p:nvGrpSpPr>
        <p:grpSpPr>
          <a:xfrm>
            <a:off x="2259360" y="3789360"/>
            <a:ext cx="6489360" cy="1410480"/>
            <a:chOff x="2259360" y="3789360"/>
            <a:chExt cx="6489360" cy="1410480"/>
          </a:xfrm>
        </p:grpSpPr>
        <p:sp>
          <p:nvSpPr>
            <p:cNvPr id="1563" name="Rectangle 115"/>
            <p:cNvSpPr/>
            <p:nvPr/>
          </p:nvSpPr>
          <p:spPr>
            <a:xfrm>
              <a:off x="2259360" y="3862440"/>
              <a:ext cx="16437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1c1c1c"/>
                  </a:solidFill>
                  <a:uFillTx/>
                  <a:latin typeface="Arial"/>
                  <a:ea typeface="宋体"/>
                </a:rPr>
                <a:t>表示两个数之间的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1c1c1c"/>
                  </a:solidFill>
                  <a:uFillTx/>
                  <a:latin typeface="Arial"/>
                  <a:ea typeface="宋体"/>
                </a:rPr>
                <a:t>倍数关系</a:t>
              </a:r>
              <a:r>
                <a:rPr b="0" i="1" lang="zh-CN" sz="2400" spc="-1" strike="noStrike" u="sng">
                  <a:solidFill>
                    <a:srgbClr val="1c1c1c"/>
                  </a:solidFill>
                  <a:uFillTx/>
                  <a:latin typeface="Arial"/>
                  <a:ea typeface="楷体_GB2312"/>
                </a:rPr>
                <a:t>。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64" name="Rectangle 117"/>
            <p:cNvSpPr/>
            <p:nvPr/>
          </p:nvSpPr>
          <p:spPr>
            <a:xfrm>
              <a:off x="4643280" y="3789360"/>
              <a:ext cx="410544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1c1c1c"/>
                  </a:solidFill>
                  <a:uFillTx/>
                  <a:latin typeface="Arial"/>
                  <a:ea typeface="宋体"/>
                </a:rPr>
                <a:t>既可以表示一个具体的数</a:t>
              </a:r>
              <a:r>
                <a:rPr b="0" i="1" lang="zh-CN" sz="2400" spc="-1" strike="noStrike" u="sng">
                  <a:solidFill>
                    <a:srgbClr val="1c1c1c"/>
                  </a:solidFill>
                  <a:uFillTx/>
                  <a:latin typeface="Arial"/>
                  <a:ea typeface="楷体_GB2312"/>
                </a:rPr>
                <a:t>、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1c1c1c"/>
                  </a:solidFill>
                  <a:uFillTx/>
                  <a:latin typeface="Arial"/>
                  <a:ea typeface="宋体"/>
                </a:rPr>
                <a:t>又可以表示两个数之间的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1c1c1c"/>
                  </a:solidFill>
                  <a:uFillTx/>
                  <a:latin typeface="Arial"/>
                  <a:ea typeface="宋体"/>
                </a:rPr>
                <a:t>倍数关系</a:t>
              </a:r>
              <a:r>
                <a:rPr b="0" i="1" lang="zh-CN" sz="2400" spc="-1" strike="noStrike" u="sng">
                  <a:solidFill>
                    <a:srgbClr val="1c1c1c"/>
                  </a:solidFill>
                  <a:uFillTx/>
                  <a:latin typeface="Arial"/>
                  <a:ea typeface="楷体_GB2312"/>
                </a:rPr>
                <a:t>。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66200" y="379440"/>
            <a:ext cx="613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五、分析比较、巩固形成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 Box 118"/>
          <p:cNvSpPr/>
          <p:nvPr/>
        </p:nvSpPr>
        <p:spPr>
          <a:xfrm>
            <a:off x="1187280" y="5445000"/>
            <a:ext cx="6769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所以百分数的后面不能写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单位名称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7" name="Text Box 4"/>
          <p:cNvSpPr/>
          <p:nvPr/>
        </p:nvSpPr>
        <p:spPr>
          <a:xfrm>
            <a:off x="527040" y="1365120"/>
            <a:ext cx="662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比较辨析分数、百分数的异同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68" name="Picture 20" descr="男天使副本"/>
          <p:cNvPicPr/>
          <p:nvPr/>
        </p:nvPicPr>
        <p:blipFill>
          <a:blip r:embed="rId1"/>
          <a:stretch/>
        </p:blipFill>
        <p:spPr>
          <a:xfrm>
            <a:off x="395280" y="2009880"/>
            <a:ext cx="1297080" cy="1203120"/>
          </a:xfrm>
          <a:prstGeom prst="rect">
            <a:avLst/>
          </a:prstGeom>
          <a:ln w="0">
            <a:noFill/>
          </a:ln>
        </p:spPr>
      </p:pic>
      <p:grpSp>
        <p:nvGrpSpPr>
          <p:cNvPr id="1569" name="组合 25622"/>
          <p:cNvGrpSpPr/>
          <p:nvPr/>
        </p:nvGrpSpPr>
        <p:grpSpPr>
          <a:xfrm>
            <a:off x="1979640" y="2133720"/>
            <a:ext cx="6549840" cy="1055880"/>
            <a:chOff x="1979640" y="2133720"/>
            <a:chExt cx="6549840" cy="1055880"/>
          </a:xfrm>
        </p:grpSpPr>
        <p:sp>
          <p:nvSpPr>
            <p:cNvPr id="1570" name="AutoShape 15"/>
            <p:cNvSpPr/>
            <p:nvPr/>
          </p:nvSpPr>
          <p:spPr>
            <a:xfrm>
              <a:off x="1979640" y="2133720"/>
              <a:ext cx="6549840" cy="719280"/>
            </a:xfrm>
            <a:prstGeom prst="wedgeRoundRectCallout">
              <a:avLst>
                <a:gd name="adj1" fmla="val -54263"/>
                <a:gd name="adj2" fmla="val 35870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1" name="Text Box 16"/>
            <p:cNvSpPr/>
            <p:nvPr/>
          </p:nvSpPr>
          <p:spPr>
            <a:xfrm>
              <a:off x="2004840" y="2205360"/>
              <a:ext cx="63835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说一说百分数和分数在意义上有什么相同和不同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"/>
                            </p:stCondLst>
                            <p:childTnLst>
                              <p:par>
                                <p:cTn id="2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Text Box 4"/>
          <p:cNvSpPr/>
          <p:nvPr/>
        </p:nvSpPr>
        <p:spPr>
          <a:xfrm>
            <a:off x="522360" y="1370160"/>
            <a:ext cx="662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介绍数学小知识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3" name="Rectangle 72"/>
          <p:cNvSpPr/>
          <p:nvPr/>
        </p:nvSpPr>
        <p:spPr>
          <a:xfrm>
            <a:off x="466560" y="37944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五、分析比较、巩固形成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74" name="图片 26627" descr="未标题-41"/>
          <p:cNvPicPr/>
          <p:nvPr/>
        </p:nvPicPr>
        <p:blipFill>
          <a:blip r:embed="rId1"/>
          <a:stretch/>
        </p:blipFill>
        <p:spPr>
          <a:xfrm>
            <a:off x="754200" y="2025720"/>
            <a:ext cx="7705440" cy="46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40:42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